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51871"/>
        <c:axId val="72700630"/>
      </c:barChart>
      <c:catAx>
        <c:axId val="39651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00630"/>
        <c:crosses val="autoZero"/>
        <c:auto val="1"/>
        <c:lblAlgn val="ctr"/>
        <c:lblOffset val="100"/>
        <c:noMultiLvlLbl val="0"/>
      </c:catAx>
      <c:valAx>
        <c:axId val="72700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1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1C8-EE3C-48FB-B413-6FF766B0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E06-6516-44CC-8853-92E56B7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93-0FE7-4D5A-BFB2-11BD73D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BDD-0953-4999-BD1D-AACD694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92C-B582-4A1F-A2AB-0401E06B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7CC-9603-48C8-8DF9-BD47864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98E-44F9-470B-89F7-F49AAED2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192-D144-4BD5-82F0-4F2A885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CDB-7AA9-4763-B5B4-176CB81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1A2-A051-422B-9F00-91B2032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317-1084-4A29-8890-92D9CD9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3D1-68AC-4F02-ACE4-C73F336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876C6-3BA5-4892-B6FC-95BD8EE46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