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3338561"/>
        <c:axId val="30871954"/>
      </c:barChart>
      <c:catAx>
        <c:axId val="333385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871954"/>
        <c:crosses val="autoZero"/>
        <c:auto val="1"/>
        <c:lblAlgn val="ctr"/>
        <c:lblOffset val="100"/>
        <c:noMultiLvlLbl val="0"/>
      </c:catAx>
      <c:valAx>
        <c:axId val="308719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33385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6F6CF-5268-4F38-993C-EE83A50B47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D88C6-A835-49A3-B560-A895B65EB1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41F17-49D4-43F7-AE68-7E1D11B659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2EAF-659E-4AB7-BEF2-8903FD632D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4714F-6321-4CA3-91EB-6BECFF4D5F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BDB8C-EC36-4D9C-B6DB-1441ECB51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AC6F1-2633-482F-8B61-4BC9AD4B7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A4167-A2E8-4E29-8769-C45F52300B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0DEB9-A30B-4C6E-BE4C-7E6F20B78F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754CB-E0F7-469A-9439-F9A8E69A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38350-5D40-4595-929B-7D80CA5B0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C287A-1923-4935-966A-6ED947BC8C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E65D6D-8D44-46BA-8866-E49008A5319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