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58411"/>
        <c:axId val="92622857"/>
      </c:barChart>
      <c:catAx>
        <c:axId val="52458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622857"/>
        <c:crosses val="autoZero"/>
        <c:auto val="1"/>
        <c:lblAlgn val="ctr"/>
        <c:lblOffset val="100"/>
        <c:noMultiLvlLbl val="0"/>
      </c:catAx>
      <c:valAx>
        <c:axId val="926228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58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8CEF-A7E4-4E33-8FD1-53DEDC4B4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D3A-406D-45BF-91F2-52AD47F9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A58-B1AE-4D82-934F-F38295A0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4C5D-7DAF-469B-86E6-4E3B7A49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04EC-8465-4BEF-B3F8-C3066EE2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09982-8347-4008-938C-FDE4AA93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2CF2C-6CE3-4621-B4A1-33E458182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6EB-833B-4D2C-8D7B-AFF110845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195-169A-4022-A470-21A0C6ECA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7BC0-8135-4E53-89A6-7F6BD6A8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542-860C-4E5F-8624-64146B5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1D16-55DA-40ED-9867-16712013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575F3D-DEDA-4DE6-AA48-2C3F260761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