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15243"/>
        <c:axId val="42961475"/>
      </c:barChart>
      <c:catAx>
        <c:axId val="15015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61475"/>
        <c:crosses val="autoZero"/>
        <c:auto val="1"/>
        <c:lblAlgn val="ctr"/>
        <c:lblOffset val="100"/>
        <c:noMultiLvlLbl val="0"/>
      </c:catAx>
      <c:valAx>
        <c:axId val="429614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15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458-3B55-42D4-AAB6-C76F429A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5B8-43F7-48D3-92C1-76B37103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0F4-42A9-4DB2-AE19-961A0027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003-852C-4AA4-BE2A-B1117C66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221-458A-4C5E-B87C-975FC55D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C2A-62C0-4FCB-A7B9-2DB02A7D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5FF-AD9F-45C4-8081-33FB95BE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DEB-AC4B-4879-9626-0C5D9281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4A5-466B-4A46-AE51-7CAA107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23F-D7EB-4048-8A77-65D51A71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E9A-F083-465F-947B-438DB873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927-6FF0-431E-85C3-1D18DAC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EAC78-8BF7-4598-B197-ACB1AD70D6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