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39793"/>
        <c:axId val="11350965"/>
      </c:barChart>
      <c:catAx>
        <c:axId val="74939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0965"/>
        <c:crosses val="autoZero"/>
        <c:auto val="1"/>
        <c:lblAlgn val="ctr"/>
        <c:lblOffset val="100"/>
        <c:noMultiLvlLbl val="0"/>
      </c:catAx>
      <c:valAx>
        <c:axId val="11350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39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88B-F63F-4587-9A3D-72F7D694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27D-0B86-4578-A563-C9ECDB84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9A1-5C10-4715-847C-C114F35D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F96-B36E-4C46-84E1-634E2ADC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11C-477F-4B2E-AD99-2DE8A537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98C-C004-41FE-9F52-713E6F93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098-3A51-4175-A622-655FC69D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05A-3D80-466D-A80D-512682AF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437-770B-46F5-99EA-7BEF92C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2DF-C514-4DB0-AA37-D5971BD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746-96F3-47C4-A133-ECCF3EE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49C-D996-4E6A-90EC-7E736E0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E3392-C961-4398-AF37-0DBCDC3B5E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