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92351"/>
        <c:axId val="43023660"/>
      </c:barChart>
      <c:catAx>
        <c:axId val="41692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3660"/>
        <c:crosses val="autoZero"/>
        <c:auto val="1"/>
        <c:lblAlgn val="ctr"/>
        <c:lblOffset val="100"/>
        <c:noMultiLvlLbl val="0"/>
      </c:catAx>
      <c:valAx>
        <c:axId val="43023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92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B99-3247-4F8C-A08C-42279B31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105-DCD9-4F91-8CDC-A300197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0C3-ED91-42F1-8C11-5AD08BF6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3A7-6049-48C8-AD02-15D45BFA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8BE-29DD-4DFD-8D9A-7DB3D8E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C02-9FB6-4BDA-AA37-2AAB259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1C5-1054-4F09-910B-257C84A1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333-2463-4981-BE07-BFBEFB7A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B94-643E-48C3-BD35-F18A1E30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ED5-B787-4EEE-93B9-377ECB5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DC0-7EE7-42F2-8594-CB3ED58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222-58DE-44BB-88C4-0574EBD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32F2C-78B5-47F8-A628-A2D10D747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