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944982"/>
        <c:axId val="57918398"/>
      </c:barChart>
      <c:catAx>
        <c:axId val="589449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918398"/>
        <c:crosses val="autoZero"/>
        <c:auto val="1"/>
        <c:lblAlgn val="ctr"/>
        <c:lblOffset val="100"/>
        <c:noMultiLvlLbl val="0"/>
      </c:catAx>
      <c:valAx>
        <c:axId val="579183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9449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8673-0B82-49B8-9A62-D1FEE84E2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32C6-60AB-4A52-A658-7677AD1EF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3F32-73CA-47DF-BB7E-E5B94F0FD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AAD9-2CC4-4BAB-82F1-217B1937B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B179-091B-4BD5-A604-8B7F8DF6D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AA9C-7577-4610-956C-AD4E8AFE8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3FE7-27FE-4DD1-8EBA-1D0F718FE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6636-5664-41AF-85BC-6A50693DE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8B18-3E7D-4571-BE46-D52787708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4563-70EE-4670-9D07-92E2B4312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C658-CCE4-46E1-9533-2FAD777BB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438D-F1CE-4412-9A19-9E04BE3B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86CEC2-8E41-49FC-A3FA-FCFF0113136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